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DA81-6E67-4E14-B610-B455829256D7}"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1A12-CC3D-4B99-8C35-04D54142481F}"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0"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96F3-053B-4E04-9320-7E118B6A6404}"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3"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D10B-4D0B-4D30-8CAA-3765D0155916}"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17B1-13C3-4012-9BD0-5D360A65FA2B}"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0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7B4E-A872-4BC2-8CA4-5296414E917F}"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F33D-8573-40F2-908F-535139E8E139}"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C942-1E56-4747-99D1-0CD7F8D28A96}"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31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2F8A-9819-422F-81B9-59658DF08F27}"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6"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2B9D-A511-4131-8521-AAAD52E730E4}"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79"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2F97-AB36-400A-9D17-7FF4940DC516}"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2"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E1E0-43E6-4A2C-BA54-1FA5F8B03631}"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5"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BCB6-25F1-4FB3-A723-6A8B6A37B948}"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88"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722C-411F-4B16-900A-731FB5E5AD78}"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1"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CD6C-3A43-44B0-B052-FFFC9305E8D3}"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4"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6325-C336-4EFA-9785-793EB5F033B6}"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Calibri"/>
            </a:endParaRPr>
          </a:p>
        </p:txBody>
      </p:sp>
      <p:sp>
        <p:nvSpPr>
          <p:cNvPr id="297" name="Ograda številke diapoz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DABE-25A8-4267-88E8-15E101559427}" type="slidenum">
              <a:rPr b="0" lang="sl-SI"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42C43-2C71-4859-898D-F6C92BC44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41D5B-C455-45D7-9DAE-0FDB52817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AB630-B48A-47D5-8814-E4CE3F685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1A01C-FF8B-4316-9BFA-EDA25144B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BB752A-CA1C-43CD-BF35-E23DAFD977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930E2-CB23-4C5C-9224-A25A21460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65494-C275-403A-A239-2C07D71B8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53887-EB77-4AC0-9234-E75DCFD85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F5E64-786F-45F4-8E8A-C40C5C3FE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EFA7A-AEEB-492D-B338-88920A7B8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FC0F8-B10C-4E37-9191-8792C44A1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0D326-6B3C-40BE-A906-180BB9324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D8DF4-DC8C-4F42-9B96-C96BB3F47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FC072-C05D-4255-B650-E8875432B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2A621-6E87-49AA-8C9E-BD6F6A546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793D9-CEF9-4948-B9C9-6258F3CA0F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D9BFC-39E9-4896-BEDD-AE200AE5C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B9E7F1-7E21-4162-BF3F-51C416FE21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A5DBA2-2A67-474F-8C33-2BBE54EBC5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2D19ED-5EB1-4972-98FA-28BC320F4D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475D8D-A56F-4A80-B4E7-2340458D89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37C653-40EF-4F0F-BC89-671C256597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2DADF-5C59-4935-AABE-B860ECFFD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895A22-2C97-4706-97A5-2371A45B0B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754E10-3981-44F3-BDED-F80DA8DD10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ABA4A5-EC73-4D41-A8B0-A4372B9AC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89860-602F-41AD-A626-E15DD8830E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6F692E-8146-40BD-B866-77FFE6840F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4B0616-5ED9-4593-9FE4-E61329CAA6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259CFF-BD5C-4836-9B1C-D46AD7C86B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B54337-6CD6-403A-8131-E2D62D9816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DCFE5E-327C-452B-A959-F108502455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C082E7-A781-4337-97BF-861E82FADA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E3089-C012-4ACA-8687-E02C66F2E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7E8892-7655-45AD-B0E8-650252A1D6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86DB64-9D92-4502-8CFF-CF05CBA6DB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BFF72F-90CF-4961-96C5-20E559614B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7CCFFD-B9B2-4046-98FF-B2D4D9F583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1D1DC9-FE4E-48FE-8CBF-33EC60B257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A70CD-0528-49E6-ABA2-56A6F0B02E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5D992F-38AE-40B9-952D-010B389EF9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B4D25A-723F-477E-A5EA-4EB2D1A7BF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705646-F99B-42C9-8C48-9B54B7C630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7A28F-9FF4-4B91-ADFC-B4942C448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D445E-7A06-43FB-A51C-FECE6D869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4AD38-483F-4CD8-9953-A850E227C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E50EE-16FE-4C83-8ABC-96A35A73F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F3DCA-3EE3-439D-9D69-DADC43226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6CA3-1A23-4C04-9600-5D791296E9EB}"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C365-CC1F-4FF3-8F41-C3223676E20F}"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59E9-E513-4BA3-A607-CFA77205226C}"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898989"/>
                </a:solidFill>
                <a:latin typeface="Arial"/>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D8E1-D3E8-46E1-90C6-76201CFB1357}" type="slidenum">
              <a:rPr b="0" lang="sl-SI"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Naslov 1"/>
          <p:cNvGrpSpPr/>
          <p:nvPr/>
        </p:nvGrpSpPr>
        <p:grpSpPr>
          <a:xfrm>
            <a:off x="500040" y="1158840"/>
            <a:ext cx="7851960" cy="4321080"/>
            <a:chOff x="500040" y="1158840"/>
            <a:chExt cx="7851960" cy="4321080"/>
          </a:xfrm>
        </p:grpSpPr>
        <p:pic>
          <p:nvPicPr>
            <p:cNvPr id="221" name="Naslov 1" descr=""/>
            <p:cNvPicPr/>
            <p:nvPr/>
          </p:nvPicPr>
          <p:blipFill>
            <a:blip r:embed="rId1"/>
            <a:stretch/>
          </p:blipFill>
          <p:spPr>
            <a:xfrm>
              <a:off x="500040" y="1158840"/>
              <a:ext cx="7851960" cy="4321080"/>
            </a:xfrm>
            <a:prstGeom prst="rect">
              <a:avLst/>
            </a:prstGeom>
            <a:ln w="0">
              <a:noFill/>
            </a:ln>
          </p:spPr>
        </p:pic>
        <p:sp>
          <p:nvSpPr>
            <p:cNvPr id="222" name=""/>
            <p:cNvSpPr/>
            <p:nvPr/>
          </p:nvSpPr>
          <p:spPr>
            <a:xfrm>
              <a:off x="539640" y="1197000"/>
              <a:ext cx="7772400" cy="42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POSLOVNO POROČILO </a:t>
              </a:r>
              <a:br>
                <a:rPr sz="7200"/>
              </a:br>
              <a:r>
                <a:rPr b="1" lang="sl-SI" sz="7200" spc="-1" strike="noStrike">
                  <a:solidFill>
                    <a:srgbClr val="99ca3c"/>
                  </a:solidFill>
                  <a:latin typeface="Calibri"/>
                </a:rPr>
                <a:t>za </a:t>
              </a:r>
              <a:br>
                <a:rPr sz="7200"/>
              </a:br>
              <a:r>
                <a:rPr b="1" lang="sl-SI" sz="7200" spc="-1" strike="noStrike">
                  <a:solidFill>
                    <a:srgbClr val="99ca3c"/>
                  </a:solidFill>
                  <a:latin typeface="Calibri"/>
                </a:rPr>
                <a:t>leto 2014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200" spc="-1" strike="noStrike">
                  <a:solidFill>
                    <a:srgbClr val="99ca3c"/>
                  </a:solidFill>
                  <a:latin typeface="Calibri"/>
                </a:rPr>
                <a:t>OŠ Stična</a:t>
              </a:r>
              <a:endParaRPr b="0" lang="en-US" sz="7200" spc="-1" strike="noStrike">
                <a:solidFill>
                  <a:srgbClr val="000000"/>
                </a:solidFill>
                <a:latin typeface="Arial"/>
              </a:endParaRPr>
            </a:p>
          </p:txBody>
        </p:sp>
      </p:grpSp>
    </p:spTree>
  </p:cSld>
  <p:transition spd="slow" advTm="8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oljeZBesedilom 1"/>
          <p:cNvSpPr/>
          <p:nvPr/>
        </p:nvSpPr>
        <p:spPr>
          <a:xfrm>
            <a:off x="2268360" y="0"/>
            <a:ext cx="41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ŠPORTNI DOSEŽKI</a:t>
            </a:r>
            <a:endParaRPr b="0" lang="en-US" sz="4000" spc="-1" strike="noStrike">
              <a:solidFill>
                <a:srgbClr val="000000"/>
              </a:solidFill>
              <a:latin typeface="Arial"/>
            </a:endParaRPr>
          </a:p>
        </p:txBody>
      </p:sp>
      <p:sp>
        <p:nvSpPr>
          <p:cNvPr id="250" name="PoljeZBesedilom 2"/>
          <p:cNvSpPr/>
          <p:nvPr/>
        </p:nvSpPr>
        <p:spPr>
          <a:xfrm>
            <a:off x="84240" y="476280"/>
            <a:ext cx="8928000" cy="639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2. 01. 2014 Šempeter pri Novi Gorici: posamično osnovnošolsko tekmovanje v šahu: Hana Bajt 7.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9. 01. 2014 na OŠ Žirovnica polfinalno tekmovanje v skokih z male prožne ponjave. Najmlajše učenke ekipno 3. mesto. V tekmovanju mlajših deklic je Neja Planko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6. 02. 2014 Brežice: državno tekmovanje v skokih z male prožne ponjave. Neja Planko 24.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04. 2014 Zalogu v Ljubljani: četrtfinale državnega tekmovanja v namiznem tenisu. Miha Okorn 6.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4. 04. 2014 državno tekmovanje v krosu v Mariboru. Gašper Herman 8. mesto. Ela Tekavec 19.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7. 05. 2014 na OŠ Dobrova finale državnega tekmovanja v športni gimnastiki.  Najmlajše učenke 6. mesto. Mlajše učenke 11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05. 06. 2014 Koper: finale posamičnega prvenstva OŠ v atletiki. Gal Krauthaker 2.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16. 10. 2014 na OŠ Dobrova državno tekmovanje v mnogoboju. Ekipno učenke 4. mesto. Posamično Nika Škoda 3. mes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25. 10. 2014 Ljubljana: Ljubljanski maraton. Ela Tekavec 7. mesto.</a:t>
            </a:r>
            <a:endParaRPr b="0" lang="en-US" sz="2300" spc="-1" strike="noStrike">
              <a:solidFill>
                <a:srgbClr val="000000"/>
              </a:solidFill>
              <a:latin typeface="Arial"/>
            </a:endParaRPr>
          </a:p>
        </p:txBody>
      </p:sp>
    </p:spTree>
  </p:cSld>
  <p:transition spd="slow" advTm="8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 NPZ</a:t>
            </a:r>
            <a:endParaRPr b="0" lang="en-US" sz="4000" spc="-1" strike="noStrike">
              <a:solidFill>
                <a:srgbClr val="000000"/>
              </a:solidFill>
              <a:latin typeface="Arial"/>
            </a:endParaRPr>
          </a:p>
        </p:txBody>
      </p:sp>
      <p:sp>
        <p:nvSpPr>
          <p:cNvPr id="253" name="PoljeZBesedilom 2"/>
          <p:cNvSpPr/>
          <p:nvPr/>
        </p:nvSpPr>
        <p:spPr>
          <a:xfrm>
            <a:off x="179280" y="47628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6. razrede (obvezno): 103 učenci: </a:t>
            </a:r>
            <a:r>
              <a:rPr b="1" lang="sl-SI" sz="3600" spc="-1" strike="noStrike">
                <a:solidFill>
                  <a:srgbClr val="000000"/>
                </a:solidFill>
                <a:latin typeface="Calibri"/>
                <a:ea typeface="Verdana"/>
              </a:rPr>
              <a:t>matematika 65,86 % </a:t>
            </a:r>
            <a:r>
              <a:rPr b="1" lang="sl-SI" sz="3600" spc="-1" strike="noStrike">
                <a:solidFill>
                  <a:srgbClr val="99ca3c"/>
                </a:solidFill>
                <a:latin typeface="Calibri"/>
                <a:ea typeface="Verdana"/>
              </a:rPr>
              <a:t>(SLO 62,10 %), </a:t>
            </a:r>
            <a:r>
              <a:rPr b="1" lang="sl-SI" sz="3600" spc="-1" strike="noStrike">
                <a:solidFill>
                  <a:srgbClr val="000000"/>
                </a:solidFill>
                <a:latin typeface="Calibri"/>
                <a:ea typeface="Verdana"/>
              </a:rPr>
              <a:t>slovenščina 65,14 % </a:t>
            </a:r>
            <a:r>
              <a:rPr b="1" lang="sl-SI" sz="3600" spc="-1" strike="noStrike">
                <a:solidFill>
                  <a:srgbClr val="99ca3c"/>
                </a:solidFill>
                <a:latin typeface="Calibri"/>
                <a:ea typeface="Verdana"/>
              </a:rPr>
              <a:t>(SLO 62,47 %) in </a:t>
            </a:r>
            <a:r>
              <a:rPr b="1" lang="sl-SI" sz="3600" spc="-1" strike="noStrike">
                <a:solidFill>
                  <a:srgbClr val="000000"/>
                </a:solidFill>
                <a:latin typeface="Calibri"/>
                <a:ea typeface="Verdana"/>
              </a:rPr>
              <a:t>angleščina 41,73 % </a:t>
            </a:r>
            <a:r>
              <a:rPr b="1" lang="sl-SI" sz="3600" spc="-1" strike="noStrike">
                <a:solidFill>
                  <a:srgbClr val="99ca3c"/>
                </a:solidFill>
                <a:latin typeface="Calibri"/>
                <a:ea typeface="Verdana"/>
              </a:rPr>
              <a:t>(SLO 48,30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2a5010"/>
                </a:solidFill>
                <a:latin typeface="Calibri"/>
                <a:ea typeface="Verdana"/>
              </a:rPr>
              <a:t>NPZ za 9. razrede (obvezno): 87 učencev: </a:t>
            </a:r>
            <a:r>
              <a:rPr b="1" lang="sl-SI" sz="3600" spc="-1" strike="noStrike">
                <a:solidFill>
                  <a:srgbClr val="000000"/>
                </a:solidFill>
                <a:latin typeface="Calibri"/>
                <a:ea typeface="Verdana"/>
              </a:rPr>
              <a:t>Matematika 55,48 % </a:t>
            </a:r>
            <a:r>
              <a:rPr b="1" lang="sl-SI" sz="3600" spc="-1" strike="noStrike">
                <a:solidFill>
                  <a:srgbClr val="99ca3c"/>
                </a:solidFill>
                <a:latin typeface="Calibri"/>
                <a:ea typeface="Verdana"/>
              </a:rPr>
              <a:t>(SLO – 53,39 %), </a:t>
            </a:r>
            <a:r>
              <a:rPr b="1" lang="sl-SI" sz="3600" spc="-1" strike="noStrike">
                <a:solidFill>
                  <a:srgbClr val="000000"/>
                </a:solidFill>
                <a:latin typeface="Calibri"/>
                <a:ea typeface="Verdana"/>
              </a:rPr>
              <a:t>Slovenščina 54,24 % </a:t>
            </a:r>
            <a:r>
              <a:rPr b="1" lang="sl-SI" sz="3600" spc="-1" strike="noStrike">
                <a:solidFill>
                  <a:srgbClr val="99ca3c"/>
                </a:solidFill>
                <a:latin typeface="Calibri"/>
                <a:ea typeface="Verdana"/>
              </a:rPr>
              <a:t>(SLO – 55,07 %), </a:t>
            </a:r>
            <a:r>
              <a:rPr b="1" lang="sl-SI" sz="3600" spc="-1" strike="noStrike">
                <a:solidFill>
                  <a:srgbClr val="000000"/>
                </a:solidFill>
                <a:latin typeface="Calibri"/>
                <a:ea typeface="Verdana"/>
              </a:rPr>
              <a:t>Biologija 45,30 % </a:t>
            </a:r>
            <a:r>
              <a:rPr b="1" lang="sl-SI" sz="3600" spc="-1" strike="noStrike">
                <a:solidFill>
                  <a:srgbClr val="99ca3c"/>
                </a:solidFill>
                <a:latin typeface="Calibri"/>
                <a:ea typeface="Verdana"/>
              </a:rPr>
              <a:t>(SLO – 47,46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advTm="8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oljeZBesedilom 1"/>
          <p:cNvSpPr/>
          <p:nvPr/>
        </p:nvSpPr>
        <p:spPr>
          <a:xfrm>
            <a:off x="1908000" y="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PIS V SREDNJE ŠOLE</a:t>
            </a:r>
            <a:endParaRPr b="0" lang="en-US" sz="4000" spc="-1" strike="noStrike">
              <a:solidFill>
                <a:srgbClr val="000000"/>
              </a:solidFill>
              <a:latin typeface="Arial"/>
            </a:endParaRPr>
          </a:p>
        </p:txBody>
      </p:sp>
      <p:sp>
        <p:nvSpPr>
          <p:cNvPr id="256" name="PoljeZBesedilom 2"/>
          <p:cNvSpPr/>
          <p:nvPr/>
        </p:nvSpPr>
        <p:spPr>
          <a:xfrm>
            <a:off x="324000" y="549360"/>
            <a:ext cx="8820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Gimnazija in strokovna gimnazi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2 (Srednja šola Josipa Jurčiča: 21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strokovnega oz. tehnišk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37 (Srednja šola Josipa Jurčiča: 2 učencev),</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sredn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18,</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programi nižjega poklicnega izobraževanj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932313"/>
                </a:solidFill>
                <a:latin typeface="Calibri"/>
                <a:ea typeface="Verdana"/>
              </a:rPr>
              <a:t>5 (od tega 3 učenci OŠPP).</a:t>
            </a:r>
            <a:endParaRPr b="0" lang="en-US" sz="3200" spc="-1" strike="noStrike">
              <a:solidFill>
                <a:srgbClr val="000000"/>
              </a:solidFill>
              <a:latin typeface="Arial"/>
            </a:endParaRPr>
          </a:p>
        </p:txBody>
      </p:sp>
    </p:spTree>
  </p:cSld>
  <p:transition spd="slow" advTm="8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oljeZBesedilom 1"/>
          <p:cNvSpPr/>
          <p:nvPr/>
        </p:nvSpPr>
        <p:spPr>
          <a:xfrm>
            <a:off x="2195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USPEH</a:t>
            </a:r>
            <a:endParaRPr b="0" lang="en-US" sz="4000" spc="-1" strike="noStrike">
              <a:solidFill>
                <a:srgbClr val="000000"/>
              </a:solidFill>
              <a:latin typeface="Arial"/>
            </a:endParaRPr>
          </a:p>
        </p:txBody>
      </p:sp>
      <p:graphicFrame>
        <p:nvGraphicFramePr>
          <p:cNvPr id="259" name=""/>
          <p:cNvGraphicFramePr/>
          <p:nvPr/>
        </p:nvGraphicFramePr>
        <p:xfrm>
          <a:off x="395280" y="701640"/>
          <a:ext cx="8256600" cy="5761080"/>
        </p:xfrm>
        <a:graphic>
          <a:graphicData uri="http://schemas.openxmlformats.org/drawingml/2006/table">
            <a:tbl>
              <a:tblPr/>
              <a:tblGrid>
                <a:gridCol w="911160"/>
                <a:gridCol w="909720"/>
                <a:gridCol w="1162080"/>
                <a:gridCol w="871560"/>
                <a:gridCol w="698400"/>
                <a:gridCol w="1352520"/>
                <a:gridCol w="1003320"/>
                <a:gridCol w="881280"/>
                <a:gridCol w="466560"/>
              </a:tblGrid>
              <a:tr h="32076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pozitivno ocenjeni uč.</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ne napreduje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6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RAZRED</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z neg.oc.</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ponavljajo</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v 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skupaj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3624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5.P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7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5.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8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9.MŠ</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4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380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9.VG</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8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8,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6. - 9. </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2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4920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8</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12</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699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1. - 6.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6852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8. - 9. 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64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OŠPP</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0</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51000">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600" spc="-1" strike="noStrike">
                          <a:solidFill>
                            <a:srgbClr val="ffffff"/>
                          </a:solidFill>
                          <a:latin typeface="Trebuchet MS"/>
                        </a:rPr>
                        <a:t>SKUPAJ</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3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3</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027</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99,4</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5</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1</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600" spc="-1" strike="noStrike">
                          <a:solidFill>
                            <a:srgbClr val="000000"/>
                          </a:solidFill>
                          <a:latin typeface="Trebuchet MS"/>
                        </a:rPr>
                        <a:t>0,6</a:t>
                      </a:r>
                      <a:endParaRPr b="0" lang="en-US" sz="16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oljeZBesedilom 1"/>
          <p:cNvSpPr/>
          <p:nvPr/>
        </p:nvSpPr>
        <p:spPr>
          <a:xfrm>
            <a:off x="1042920" y="0"/>
            <a:ext cx="698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Kadrovanje</a:t>
            </a:r>
            <a:endParaRPr b="0" lang="en-US" sz="4000" spc="-1" strike="noStrike">
              <a:solidFill>
                <a:srgbClr val="000000"/>
              </a:solidFill>
              <a:latin typeface="Arial"/>
            </a:endParaRPr>
          </a:p>
        </p:txBody>
      </p:sp>
      <p:graphicFrame>
        <p:nvGraphicFramePr>
          <p:cNvPr id="262" name=""/>
          <p:cNvGraphicFramePr/>
          <p:nvPr/>
        </p:nvGraphicFramePr>
        <p:xfrm>
          <a:off x="250920" y="704880"/>
          <a:ext cx="8424720" cy="6064200"/>
        </p:xfrm>
        <a:graphic>
          <a:graphicData uri="http://schemas.openxmlformats.org/drawingml/2006/table">
            <a:tbl>
              <a:tblPr/>
              <a:tblGrid>
                <a:gridCol w="4708440"/>
                <a:gridCol w="1974960"/>
                <a:gridCol w="1741320"/>
              </a:tblGrid>
              <a:tr h="245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4</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31. 12. 201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118764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avcev:</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trokovn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dministrativno-računovodski delavci</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tehnični delavci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7</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3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1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9</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906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kupno število zaposlenih</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5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3656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zaposlenih delovnih invalidov z II. ali III. stopnjo invalidnosti</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r>
                        <a:rPr b="0" lang="en-US"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3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98100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Zaposleni v delovnem razmerju:</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ne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za določen čas</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od tega neustrezna izobrazb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131</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2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          </a:t>
                      </a:r>
                      <a:r>
                        <a:rPr b="0" lang="en-US" sz="1400" spc="-1" strike="noStrike">
                          <a:solidFill>
                            <a:srgbClr val="000000"/>
                          </a:solidFill>
                          <a:latin typeface="Trebuchet MS"/>
                        </a:rPr>
                        <a:t>12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704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Število učiteljev začetnikov</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volont. pripravniki</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2  </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1</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2268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Strokovni delavci po nazivu:    </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nik</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svetovalec</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mentor</a:t>
                      </a:r>
                      <a:endParaRPr b="0" lang="en-US" sz="14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brez naziv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2</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9</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 </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4</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48</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3</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90680">
                <a:tc>
                  <a:txBody>
                    <a:bodyPr lIns="55080" rIns="55080" tIns="0" bIns="0" anchor="t">
                      <a:noAutofit/>
                    </a:bodyPr>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Upokojitve: redna</a:t>
                      </a:r>
                      <a:endParaRPr b="0" lang="en-US" sz="1400" spc="-1" strike="noStrike">
                        <a:solidFill>
                          <a:srgbClr val="000000"/>
                        </a:solidFill>
                        <a:latin typeface="Arial"/>
                      </a:endParaRPr>
                    </a:p>
                    <a:p>
                      <a:pPr marL="228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400" spc="-1" strike="noStrike">
                          <a:solidFill>
                            <a:srgbClr val="ffffff"/>
                          </a:solidFill>
                          <a:latin typeface="Trebuchet MS"/>
                        </a:rPr>
                        <a:t>                   </a:t>
                      </a:r>
                      <a:r>
                        <a:rPr b="1" lang="sl-SI" sz="1400" spc="-1" strike="noStrike">
                          <a:solidFill>
                            <a:srgbClr val="ffffff"/>
                          </a:solidFill>
                          <a:latin typeface="Trebuchet MS"/>
                        </a:rPr>
                        <a:t>invalidska</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3</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55080" rIns="5508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400" spc="-1" strike="noStrike">
                          <a:solidFill>
                            <a:srgbClr val="000000"/>
                          </a:solidFill>
                          <a:latin typeface="Trebuchet MS"/>
                        </a:rPr>
                        <a:t>0</a:t>
                      </a:r>
                      <a:endParaRPr b="0" lang="en-US" sz="1400" spc="-1" strike="noStrike">
                        <a:solidFill>
                          <a:srgbClr val="000000"/>
                        </a:solidFill>
                        <a:latin typeface="Arial"/>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ransition spd="slow" advTm="8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pic>
        <p:nvPicPr>
          <p:cNvPr id="265" name="Grafikon 4" descr=""/>
          <p:cNvPicPr/>
          <p:nvPr/>
        </p:nvPicPr>
        <p:blipFill>
          <a:blip r:embed="rId1"/>
          <a:stretch/>
        </p:blipFill>
        <p:spPr>
          <a:xfrm>
            <a:off x="109440" y="1054080"/>
            <a:ext cx="8278920" cy="4535640"/>
          </a:xfrm>
          <a:prstGeom prst="rect">
            <a:avLst/>
          </a:prstGeom>
          <a:ln w="0">
            <a:noFill/>
          </a:ln>
        </p:spPr>
      </p:pic>
      <p:sp>
        <p:nvSpPr>
          <p:cNvPr id="266"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6.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spTree>
  </p:cSld>
  <p:transition spd="slow" advTm="8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oljeZBesedilom 1"/>
          <p:cNvSpPr/>
          <p:nvPr/>
        </p:nvSpPr>
        <p:spPr>
          <a:xfrm>
            <a:off x="108000" y="0"/>
            <a:ext cx="885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ea typeface="Verdana"/>
              </a:rPr>
              <a:t>Ugotavljanje kakovosti in samoevalvacija</a:t>
            </a:r>
            <a:endParaRPr b="0" lang="en-US" sz="4000" spc="-1" strike="noStrike">
              <a:solidFill>
                <a:srgbClr val="000000"/>
              </a:solidFill>
              <a:latin typeface="Arial"/>
            </a:endParaRPr>
          </a:p>
        </p:txBody>
      </p:sp>
      <p:sp>
        <p:nvSpPr>
          <p:cNvPr id="269" name="PoljeZBesedilom 1"/>
          <p:cNvSpPr/>
          <p:nvPr/>
        </p:nvSpPr>
        <p:spPr>
          <a:xfrm>
            <a:off x="1547640" y="5589720"/>
            <a:ext cx="59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Povprečni dosežki na NPZ v </a:t>
            </a:r>
            <a:r>
              <a:rPr b="1" lang="sl-SI" sz="2000" spc="-1" strike="noStrike">
                <a:solidFill>
                  <a:srgbClr val="000000"/>
                </a:solidFill>
                <a:latin typeface="Calibri"/>
                <a:ea typeface="Times New Roman"/>
              </a:rPr>
              <a:t>9. razredu</a:t>
            </a:r>
            <a:r>
              <a:rPr b="0" lang="sl-SI" sz="2000" spc="-1" strike="noStrike">
                <a:solidFill>
                  <a:srgbClr val="000000"/>
                </a:solidFill>
                <a:latin typeface="Calibri"/>
                <a:ea typeface="Times New Roman"/>
              </a:rPr>
              <a:t> ter primerjav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ea typeface="Times New Roman"/>
              </a:rPr>
              <a:t>naše šole z državnim povprečjem</a:t>
            </a:r>
            <a:endParaRPr b="0" lang="en-US" sz="2000" spc="-1" strike="noStrike">
              <a:solidFill>
                <a:srgbClr val="000000"/>
              </a:solidFill>
              <a:latin typeface="Arial"/>
            </a:endParaRPr>
          </a:p>
        </p:txBody>
      </p:sp>
      <p:pic>
        <p:nvPicPr>
          <p:cNvPr id="270" name="Grafikon 5" descr=""/>
          <p:cNvPicPr/>
          <p:nvPr/>
        </p:nvPicPr>
        <p:blipFill>
          <a:blip r:embed="rId1"/>
          <a:stretch/>
        </p:blipFill>
        <p:spPr>
          <a:xfrm>
            <a:off x="103320" y="835200"/>
            <a:ext cx="8497800" cy="4608360"/>
          </a:xfrm>
          <a:prstGeom prst="rect">
            <a:avLst/>
          </a:prstGeom>
          <a:ln w="0">
            <a:noFill/>
          </a:ln>
        </p:spPr>
      </p:pic>
    </p:spTree>
  </p:cSld>
  <p:transition spd="slow" advTm="8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5" name="PoljeZBesedilom 3"/>
          <p:cNvSpPr/>
          <p:nvPr/>
        </p:nvSpPr>
        <p:spPr>
          <a:xfrm>
            <a:off x="190440" y="549360"/>
            <a:ext cx="8785440" cy="544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99ca3c"/>
                </a:solidFill>
                <a:latin typeface="Calibri"/>
                <a:ea typeface="Verdana"/>
              </a:rPr>
              <a:t>V letu 2014 so opravili sledeče strokovne preglede šolskih kuhinj:</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8. 01. 2014 v Višnji Go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6. 01. 2014 v Stič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8. 04. 2014 na Muljav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6. 06.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01. 10. 2014 na Krk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Times New Roman"/>
              </a:rPr>
              <a:t>11. 12. 2014 na matični šo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nšpektor za varno hrano, veterinarstvo in varstvo rastlin je opravil redni inšpekcijski pregled na podružnični šoli v Ambrusu dne 4. 3. 2014.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a podlagi prejetega obvestila staršev je dne 3. 10. 2014 Inšpektorat RS za šolstvo in šport uvedel izredni inšpekcijski nadzor oz. poziv k izjasnitvi na domnevne kršitve pri vzgojno-izobraževalnem delu na PŠ Višnja Gora.</a:t>
            </a:r>
            <a:endParaRPr b="0" lang="en-US" sz="2300" spc="-1" strike="noStrike">
              <a:solidFill>
                <a:srgbClr val="000000"/>
              </a:solidFill>
              <a:latin typeface="Arial"/>
            </a:endParaRPr>
          </a:p>
        </p:txBody>
      </p:sp>
    </p:spTree>
  </p:cSld>
  <p:transition spd="slow" advTm="8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oljeZBesedilom 1"/>
          <p:cNvSpPr/>
          <p:nvPr/>
        </p:nvSpPr>
        <p:spPr>
          <a:xfrm>
            <a:off x="1979640" y="0"/>
            <a:ext cx="41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PREGLEDI ŠOLE</a:t>
            </a:r>
            <a:endParaRPr b="0" lang="en-US" sz="4000" spc="-1" strike="noStrike">
              <a:solidFill>
                <a:srgbClr val="000000"/>
              </a:solidFill>
              <a:latin typeface="Arial"/>
            </a:endParaRPr>
          </a:p>
        </p:txBody>
      </p:sp>
      <p:sp>
        <p:nvSpPr>
          <p:cNvPr id="228" name="PoljeZBesedilom 3"/>
          <p:cNvSpPr/>
          <p:nvPr/>
        </p:nvSpPr>
        <p:spPr>
          <a:xfrm>
            <a:off x="190440" y="549360"/>
            <a:ext cx="8785440" cy="57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Dne 9. 1. 2014 je požarni inšpektor opravil pregled na PŠ Ambru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stega dne je bila pregledana tudi PŠ Višnja Gora. </a:t>
            </a:r>
            <a:r>
              <a:rPr b="1" lang="pl-PL" sz="2300" spc="-1" strike="noStrike">
                <a:solidFill>
                  <a:srgbClr val="000000"/>
                </a:solidFill>
                <a:latin typeface="Calibri"/>
                <a:ea typeface="Verdana"/>
              </a:rPr>
              <a:t>Dne 10. 1. 2014 je bila pregledana PŠ Krka. Istega dne je bila pregledana PŠ Muljava. Dne 16. 1. 2014 je bila pregledana PŠ Stična. Dne 24. 4. 2014 se je na matični šoli ponovno oglasil inšpektor za varstvo pred naravnimi in drugimi nesrečami z namenom pregleda stanja zaščite in reševanja na OŠ Stična in vseh podružničnih šolah.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Verdana"/>
              </a:rPr>
              <a:t>Inšpektorat RS za del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Izredni inšpekcijski nadzor je bil opravljen dne 31. 3. 2014 na razpisano prosto delovno mesto ''učitelja v podaljšanem bivanju''. Dne 20. 5. 2014 je bil opravljen izredni inšpekcijski nadzor na razpisano prosto delovno mesto ''učitelja razrednega pouka''.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a:ea typeface="Verdana"/>
              </a:rPr>
              <a:t>Notranjo revizijo poslovanja za leto 2013 nam je opravilo podjetje CPA Perner d.o.o dne 18. 5. 2014. Predmet revidiranja je bilo izvrševanje letnega finančnega načrta (prihodki in odhodki) OŠ za leto 2013, finančno stanje OŠ na dan 31. 12. 2013 in delovanje notranjih kontrol. </a:t>
            </a:r>
            <a:endParaRPr b="0" lang="en-US" sz="2300" spc="-1" strike="noStrike">
              <a:solidFill>
                <a:srgbClr val="000000"/>
              </a:solidFill>
              <a:latin typeface="Arial"/>
            </a:endParaRPr>
          </a:p>
        </p:txBody>
      </p:sp>
    </p:spTree>
  </p:cSld>
  <p:transition spd="slow" advTm="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Naslov 1"/>
          <p:cNvGrpSpPr/>
          <p:nvPr/>
        </p:nvGrpSpPr>
        <p:grpSpPr>
          <a:xfrm>
            <a:off x="500040" y="652320"/>
            <a:ext cx="7851960" cy="4327560"/>
            <a:chOff x="500040" y="652320"/>
            <a:chExt cx="7851960" cy="4327560"/>
          </a:xfrm>
        </p:grpSpPr>
        <p:pic>
          <p:nvPicPr>
            <p:cNvPr id="231" name="Naslov 1" descr=""/>
            <p:cNvPicPr/>
            <p:nvPr/>
          </p:nvPicPr>
          <p:blipFill>
            <a:blip r:embed="rId1"/>
            <a:stretch/>
          </p:blipFill>
          <p:spPr>
            <a:xfrm>
              <a:off x="500040" y="652320"/>
              <a:ext cx="7851960" cy="4327560"/>
            </a:xfrm>
            <a:prstGeom prst="rect">
              <a:avLst/>
            </a:prstGeom>
            <a:ln w="0">
              <a:noFill/>
            </a:ln>
          </p:spPr>
        </p:pic>
        <p:sp>
          <p:nvSpPr>
            <p:cNvPr id="232" name=""/>
            <p:cNvSpPr/>
            <p:nvPr/>
          </p:nvSpPr>
          <p:spPr>
            <a:xfrm>
              <a:off x="539640" y="692280"/>
              <a:ext cx="7772400" cy="42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oddelkov: 63,5</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Št. učencev: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2a5010"/>
                  </a:solidFill>
                  <a:latin typeface="Calibri"/>
                </a:rPr>
                <a:t>1089</a:t>
              </a:r>
              <a:endParaRPr b="0" lang="en-US" sz="4000" spc="-1" strike="noStrike">
                <a:solidFill>
                  <a:srgbClr val="000000"/>
                </a:solidFill>
                <a:latin typeface="Arial"/>
              </a:endParaRPr>
            </a:p>
          </p:txBody>
        </p:sp>
      </p:grpSp>
    </p:spTree>
  </p:cSld>
  <p:transition spd="slow" advTm="8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oljeZBesedilom 1"/>
          <p:cNvSpPr/>
          <p:nvPr/>
        </p:nvSpPr>
        <p:spPr>
          <a:xfrm>
            <a:off x="88920" y="7308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
        <p:nvSpPr>
          <p:cNvPr id="235" name="PoljeZBesedilom 3"/>
          <p:cNvSpPr/>
          <p:nvPr/>
        </p:nvSpPr>
        <p:spPr>
          <a:xfrm>
            <a:off x="250920" y="620640"/>
            <a:ext cx="889308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EALIZACIJA 2013/14</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VEZ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uk (99,80%), izbirni predmeti (100,66%), ure oddelčne skupnosti (110,6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RAZŠIRJENI PROGRA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podaljšano bivanje (100%), jutranje varstvo (100%), šola v naravi (100%), dodatni pouk (99,94%), dopolnilni pouk (103,05%), interesne dejavnosti (98,50%).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OBI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ea typeface="Verdana"/>
              </a:rPr>
              <a:t>dodatni pouk (91,33%), dopolnilni pouk (75,27%), interesne dejavnosti (89,96%). </a:t>
            </a:r>
            <a:endParaRPr b="0" lang="en-US" sz="3200" spc="-1" strike="noStrike">
              <a:solidFill>
                <a:srgbClr val="000000"/>
              </a:solidFill>
              <a:latin typeface="Arial"/>
            </a:endParaRPr>
          </a:p>
        </p:txBody>
      </p:sp>
    </p:spTree>
  </p:cSld>
  <p:transition spd="slow" advTm="8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oljeZBesedilom 3"/>
          <p:cNvSpPr/>
          <p:nvPr/>
        </p:nvSpPr>
        <p:spPr>
          <a:xfrm>
            <a:off x="277920" y="692280"/>
            <a:ext cx="8856720" cy="61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300" spc="-1" strike="noStrike">
                <a:solidFill>
                  <a:srgbClr val="000000"/>
                </a:solidFill>
                <a:latin typeface="Calibri"/>
                <a:ea typeface="Verdana"/>
              </a:rPr>
              <a:t>3. razred v Osilnici </a:t>
            </a:r>
            <a:r>
              <a:rPr b="1" lang="sl-SI" sz="3300" spc="-1" strike="noStrike">
                <a:solidFill>
                  <a:srgbClr val="99ca3c"/>
                </a:solidFill>
                <a:latin typeface="Calibri"/>
                <a:ea typeface="Verdana"/>
              </a:rPr>
              <a:t>(20 urni tečaj plavanja): </a:t>
            </a:r>
            <a:r>
              <a:rPr b="1" lang="sl-SI" sz="3300" spc="-1" strike="noStrike">
                <a:solidFill>
                  <a:srgbClr val="ff0000"/>
                </a:solidFill>
                <a:latin typeface="Calibri"/>
                <a:ea typeface="Verdana"/>
              </a:rPr>
              <a:t>14. do 18. april in 5. do 9.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4. razred v domu Lip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9. do 21., 15. do 19. in 22. do 26.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5. razred v Termah Čatež</a:t>
            </a:r>
            <a:r>
              <a:rPr b="1" lang="sl-SI" sz="3300" spc="-1" strike="noStrike">
                <a:solidFill>
                  <a:srgbClr val="99ca3c"/>
                </a:solidFill>
                <a:latin typeface="Calibri"/>
                <a:ea typeface="Verdana"/>
              </a:rPr>
              <a:t>: </a:t>
            </a:r>
            <a:r>
              <a:rPr b="1" lang="en-US" sz="3300" spc="-1" strike="noStrike">
                <a:solidFill>
                  <a:srgbClr val="ff0000"/>
                </a:solidFill>
                <a:latin typeface="Calibri"/>
                <a:ea typeface="Verdana"/>
              </a:rPr>
              <a:t>8. do 12.  in 15. do 19. septem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Planic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7. razred v domu Kranjska Gora</a:t>
            </a:r>
            <a:r>
              <a:rPr b="1" lang="sl-SI" sz="3300" spc="-1" strike="noStrike">
                <a:solidFill>
                  <a:srgbClr val="99ca3c"/>
                </a:solidFill>
                <a:latin typeface="Calibri"/>
                <a:ea typeface="Verdana"/>
              </a:rPr>
              <a:t>: </a:t>
            </a:r>
            <a:r>
              <a:rPr b="1" lang="sl-SI" sz="3300" spc="-1" strike="noStrike">
                <a:solidFill>
                  <a:srgbClr val="ff0000"/>
                </a:solidFill>
                <a:latin typeface="Calibri"/>
                <a:ea typeface="Verdana"/>
              </a:rPr>
              <a:t>20. do 24. oktobe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8. razred v domu Breženka</a:t>
            </a:r>
            <a:r>
              <a:rPr b="1" lang="sl-SI" sz="3300" spc="-1" strike="noStrike">
                <a:solidFill>
                  <a:srgbClr val="99ca3c"/>
                </a:solidFill>
                <a:latin typeface="Calibri"/>
                <a:ea typeface="Verdana"/>
              </a:rPr>
              <a:t>: </a:t>
            </a:r>
            <a:r>
              <a:rPr b="1" lang="pt-BR" sz="3300" spc="-1" strike="noStrike">
                <a:solidFill>
                  <a:srgbClr val="ff0000"/>
                </a:solidFill>
                <a:latin typeface="Calibri"/>
                <a:ea typeface="Verdana"/>
              </a:rPr>
              <a:t>24. do 28. februar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v domu Vojsko: 31. marec - 4. april 2014, v domu Planica: </a:t>
            </a:r>
            <a:r>
              <a:rPr b="1" lang="pt-BR" sz="3300" spc="-1" strike="noStrike">
                <a:solidFill>
                  <a:srgbClr val="000000"/>
                </a:solidFill>
                <a:latin typeface="Calibri"/>
                <a:ea typeface="Verdana"/>
              </a:rPr>
              <a:t>12. do 16. maj 2014</a:t>
            </a:r>
            <a:r>
              <a:rPr b="1" lang="sl-SI" sz="3300" spc="-1" strike="noStrike">
                <a:solidFill>
                  <a:srgbClr val="99ca3c"/>
                </a:solidFill>
                <a:latin typeface="Calibri"/>
                <a:ea typeface="Verdana"/>
              </a:rPr>
              <a:t>, </a:t>
            </a:r>
            <a:r>
              <a:rPr b="1" lang="sl-SI" sz="3300" spc="-1" strike="noStrike">
                <a:solidFill>
                  <a:srgbClr val="000000"/>
                </a:solidFill>
                <a:latin typeface="Calibri"/>
                <a:ea typeface="Verdana"/>
              </a:rPr>
              <a:t>6. do 9. razred v domu Breženka</a:t>
            </a:r>
            <a:r>
              <a:rPr b="1" lang="sl-SI" sz="3300" spc="-1" strike="noStrike">
                <a:solidFill>
                  <a:srgbClr val="99ca3c"/>
                </a:solidFill>
                <a:latin typeface="Calibri"/>
                <a:ea typeface="Verdana"/>
              </a:rPr>
              <a:t> (biološko ekološki tabor): </a:t>
            </a:r>
            <a:r>
              <a:rPr b="1" lang="sl-SI" sz="3300" spc="-1" strike="noStrike">
                <a:solidFill>
                  <a:srgbClr val="ff0000"/>
                </a:solidFill>
                <a:latin typeface="Calibri"/>
                <a:ea typeface="Verdana"/>
              </a:rPr>
              <a:t>24. do 28. oktober 2014</a:t>
            </a:r>
            <a:r>
              <a:rPr b="1" lang="sl-SI" sz="3300" spc="-1" strike="noStrike">
                <a:solidFill>
                  <a:srgbClr val="99ca3c"/>
                </a:solidFill>
                <a:latin typeface="Calibri"/>
                <a:ea typeface="Verdana"/>
              </a:rPr>
              <a:t>.</a:t>
            </a:r>
            <a:endParaRPr b="0" lang="en-US" sz="3300" spc="-1" strike="noStrike">
              <a:solidFill>
                <a:srgbClr val="000000"/>
              </a:solidFill>
              <a:latin typeface="Arial"/>
            </a:endParaRPr>
          </a:p>
        </p:txBody>
      </p:sp>
      <p:sp>
        <p:nvSpPr>
          <p:cNvPr id="238" name="PoljeZBesedilom 1"/>
          <p:cNvSpPr/>
          <p:nvPr/>
        </p:nvSpPr>
        <p:spPr>
          <a:xfrm>
            <a:off x="0" y="-9360"/>
            <a:ext cx="88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VZGOJNO-IZOBRAŽEVALNO DELO</a:t>
            </a:r>
            <a:endParaRPr b="0" lang="en-US" sz="4000" spc="-1" strike="noStrike">
              <a:solidFill>
                <a:srgbClr val="000000"/>
              </a:solidFill>
              <a:latin typeface="Arial"/>
            </a:endParaRPr>
          </a:p>
        </p:txBody>
      </p:sp>
    </p:spTree>
  </p:cSld>
  <p:transition spd="slow" advTm="8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oljeZBesedilom 1"/>
          <p:cNvSpPr/>
          <p:nvPr/>
        </p:nvSpPr>
        <p:spPr>
          <a:xfrm>
            <a:off x="179280" y="200160"/>
            <a:ext cx="885672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500" spc="-1" strike="noStrike">
                <a:solidFill>
                  <a:srgbClr val="99ca3c"/>
                </a:solidFill>
                <a:latin typeface="Calibri"/>
                <a:ea typeface="Verdana"/>
              </a:rPr>
              <a:t>RAZISKOVALNO DELO, PROJEKTI, TEKMOVANJA</a:t>
            </a:r>
            <a:endParaRPr b="0" lang="en-US" sz="3500" spc="-1" strike="noStrike">
              <a:solidFill>
                <a:srgbClr val="000000"/>
              </a:solidFill>
              <a:latin typeface="Arial"/>
            </a:endParaRPr>
          </a:p>
        </p:txBody>
      </p:sp>
      <p:sp>
        <p:nvSpPr>
          <p:cNvPr id="241" name="PoljeZBesedilom 3"/>
          <p:cNvSpPr/>
          <p:nvPr/>
        </p:nvSpPr>
        <p:spPr>
          <a:xfrm>
            <a:off x="684360" y="1052640"/>
            <a:ext cx="75610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Calibri"/>
                <a:ea typeface="Verdana"/>
              </a:rPr>
              <a:t>Raziskovalni projekti, novinarstvo, mednarodni projekti, državni projekti, šolski projekti, kvizi in tekmovanja, proslave, prireditve, prireditve za starše, dejavnosti za nadarjene učence, skrb za okolje, predavanja za učitelje in starše, natečaji …</a:t>
            </a:r>
            <a:endParaRPr b="0" lang="en-US" sz="4000" spc="-1" strike="noStrike">
              <a:solidFill>
                <a:srgbClr val="000000"/>
              </a:solidFill>
              <a:latin typeface="Arial"/>
            </a:endParaRPr>
          </a:p>
        </p:txBody>
      </p:sp>
    </p:spTree>
  </p:cSld>
  <p:transition spd="slow" advTm="8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oljeZBesedilom 1"/>
          <p:cNvSpPr/>
          <p:nvPr/>
        </p:nvSpPr>
        <p:spPr>
          <a:xfrm>
            <a:off x="324000" y="-100080"/>
            <a:ext cx="84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3/2014)</a:t>
            </a:r>
            <a:endParaRPr b="0" lang="en-US" sz="4000" spc="-1" strike="noStrike">
              <a:solidFill>
                <a:srgbClr val="000000"/>
              </a:solidFill>
              <a:latin typeface="Arial"/>
            </a:endParaRPr>
          </a:p>
        </p:txBody>
      </p:sp>
      <p:graphicFrame>
        <p:nvGraphicFramePr>
          <p:cNvPr id="244" name=""/>
          <p:cNvGraphicFramePr/>
          <p:nvPr/>
        </p:nvGraphicFramePr>
        <p:xfrm>
          <a:off x="395280" y="630360"/>
          <a:ext cx="7993080" cy="6462720"/>
        </p:xfrm>
        <a:graphic>
          <a:graphicData uri="http://schemas.openxmlformats.org/drawingml/2006/table">
            <a:tbl>
              <a:tblPr/>
              <a:tblGrid>
                <a:gridCol w="1428840"/>
                <a:gridCol w="1022400"/>
                <a:gridCol w="1098360"/>
                <a:gridCol w="1197000"/>
                <a:gridCol w="1198440"/>
                <a:gridCol w="1067040"/>
                <a:gridCol w="981000"/>
              </a:tblGrid>
              <a:tr h="4770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EDMET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IČNA ŠOLA (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TEK.V  ŠOLI</a:t>
                      </a:r>
                      <a:endParaRPr b="0" lang="en-US" sz="1100" spc="-1" strike="noStrike">
                        <a:solidFill>
                          <a:srgbClr val="000000"/>
                        </a:solidFill>
                        <a:latin typeface="Arial"/>
                      </a:endParaRPr>
                    </a:p>
                  </a:txBody>
                  <a:tcPr anchor="ctr" marL="24840" marR="2484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RON.</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PRIZNAN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5200">
                <a:tc>
                  <a:txBody>
                    <a:bodyPr lIns="24840" rIns="2484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IŠNJA GORA(VG)</a:t>
                      </a:r>
                      <a:endParaRPr b="0" lang="en-US" sz="1100" spc="-1" strike="noStrike">
                        <a:solidFill>
                          <a:srgbClr val="000000"/>
                        </a:solidFill>
                        <a:latin typeface="Arial"/>
                      </a:endParaRPr>
                    </a:p>
                  </a:txBody>
                  <a:tcPr anchor="ctr" marL="24840" marR="2484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PRIZN.</a:t>
                      </a:r>
                      <a:endParaRPr b="0" lang="en-US" sz="1100" spc="-1" strike="noStrike">
                        <a:solidFill>
                          <a:srgbClr val="000000"/>
                        </a:solidFill>
                        <a:latin typeface="Arial"/>
                      </a:endParaRPr>
                    </a:p>
                  </a:txBody>
                  <a:tcPr anchor="ctr" marL="24840" marR="2484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UVR./REG.DRŽ.</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SREBRN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ZLATO</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LOVEN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0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RAZVEDRILNA MATEMATIKA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LOG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NGLE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Č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BIOLOGIJA-PROTEUS</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FIZIK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KE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ZGODOVIN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ASTRONOMIJ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7</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iz znanj o sladk. bolezni</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VESELA ŠOLA</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SKUPAJ</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7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4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9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44</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3320">
                <a:tc rowSpan="2">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100" spc="-1" strike="noStrike">
                          <a:solidFill>
                            <a:srgbClr val="ffffff"/>
                          </a:solidFill>
                          <a:latin typeface="Trebuchet MS"/>
                        </a:rPr>
                        <a:t>Nemška BZ</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MŠ</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8</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6</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9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VG</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20</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3</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 </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12</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24840" rIns="248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100" spc="-1" strike="noStrike">
                          <a:solidFill>
                            <a:srgbClr val="000000"/>
                          </a:solidFill>
                          <a:latin typeface="Trebuchet MS"/>
                        </a:rPr>
                        <a:t>5</a:t>
                      </a:r>
                      <a:endParaRPr b="0" lang="en-US" sz="1100" spc="-1" strike="noStrike">
                        <a:solidFill>
                          <a:srgbClr val="000000"/>
                        </a:solidFill>
                        <a:latin typeface="Arial"/>
                      </a:endParaRPr>
                    </a:p>
                  </a:txBody>
                  <a:tcPr anchor="ctr" marL="24840" marR="24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2"/>
          <p:cNvSpPr/>
          <p:nvPr/>
        </p:nvSpPr>
        <p:spPr>
          <a:xfrm>
            <a:off x="-1484280" y="-3903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oljeZBesedilom 1"/>
          <p:cNvSpPr/>
          <p:nvPr/>
        </p:nvSpPr>
        <p:spPr>
          <a:xfrm>
            <a:off x="250920" y="-100080"/>
            <a:ext cx="828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99ca3c"/>
                </a:solidFill>
                <a:latin typeface="Calibri"/>
                <a:ea typeface="Verdana"/>
              </a:rPr>
              <a:t>TEKMOVANJA IZ ZNANJ </a:t>
            </a:r>
            <a:r>
              <a:rPr b="1" lang="sl-SI" sz="4000" spc="-1" strike="noStrike">
                <a:solidFill>
                  <a:srgbClr val="000000"/>
                </a:solidFill>
                <a:latin typeface="Calibri"/>
                <a:ea typeface="Verdana"/>
              </a:rPr>
              <a:t>(2014/2015)</a:t>
            </a:r>
            <a:endParaRPr b="0" lang="en-US" sz="4000" spc="-1" strike="noStrike">
              <a:solidFill>
                <a:srgbClr val="000000"/>
              </a:solidFill>
              <a:latin typeface="Arial"/>
            </a:endParaRPr>
          </a:p>
        </p:txBody>
      </p:sp>
      <p:graphicFrame>
        <p:nvGraphicFramePr>
          <p:cNvPr id="247" name=""/>
          <p:cNvGraphicFramePr/>
          <p:nvPr/>
        </p:nvGraphicFramePr>
        <p:xfrm>
          <a:off x="250920" y="608040"/>
          <a:ext cx="8424720" cy="5959440"/>
        </p:xfrm>
        <a:graphic>
          <a:graphicData uri="http://schemas.openxmlformats.org/drawingml/2006/table">
            <a:tbl>
              <a:tblPr/>
              <a:tblGrid>
                <a:gridCol w="1363680"/>
                <a:gridCol w="976320"/>
                <a:gridCol w="1047600"/>
                <a:gridCol w="1047960"/>
                <a:gridCol w="1017360"/>
                <a:gridCol w="1017720"/>
                <a:gridCol w="1017360"/>
                <a:gridCol w="936720"/>
              </a:tblGrid>
              <a:tr h="89460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PREDMET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MATIČNA ŠOLA (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TEK.V  ŠOLI</a:t>
                      </a:r>
                      <a:endParaRPr b="0" lang="en-US" sz="1700" spc="-1" strike="noStrike">
                        <a:solidFill>
                          <a:srgbClr val="000000"/>
                        </a:solidFill>
                        <a:latin typeface="Arial"/>
                      </a:endParaRPr>
                    </a:p>
                  </a:txBody>
                  <a:tcPr anchor="ctr" marL="43560" marR="43560">
                    <a:lnL w="18720">
                      <a:solidFill>
                        <a:srgbClr val="ffffff"/>
                      </a:solidFill>
                    </a:lnL>
                    <a:lnR w="18720">
                      <a:solidFill>
                        <a:srgbClr val="ffffff"/>
                      </a:solidFill>
                    </a:lnR>
                    <a:lnT w="5760">
                      <a:solidFill>
                        <a:srgbClr val="ffffff"/>
                      </a:solidFill>
                    </a:lnT>
                    <a:lnB w="1872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RON.</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gridSpan="3">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r>
                        <a:rPr b="1" lang="sl-SI" sz="1700" spc="-1" strike="noStrike">
                          <a:solidFill>
                            <a:srgbClr val="ffffff"/>
                          </a:solidFill>
                          <a:latin typeface="Trebuchet MS"/>
                        </a:rPr>
                        <a:t>PRIZNAN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894600">
                <a:tc>
                  <a:txBody>
                    <a:bodyPr lIns="43560" rIns="4356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IŠNJA GORA(VG)</a:t>
                      </a:r>
                      <a:endParaRPr b="0" lang="en-US" sz="1700" spc="-1" strike="noStrike">
                        <a:solidFill>
                          <a:srgbClr val="000000"/>
                        </a:solidFill>
                        <a:latin typeface="Arial"/>
                      </a:endParaRPr>
                    </a:p>
                  </a:txBody>
                  <a:tcPr anchor="ctr" marL="43560" marR="43560">
                    <a:lnL w="5760">
                      <a:solidFill>
                        <a:srgbClr val="ffffff"/>
                      </a:solidFill>
                    </a:lnL>
                    <a:lnR w="18720">
                      <a:solidFill>
                        <a:srgbClr val="ffffff"/>
                      </a:solidFill>
                    </a:lnR>
                    <a:lnT w="18720">
                      <a:solidFill>
                        <a:srgbClr val="ffffff"/>
                      </a:solidFill>
                    </a:lnT>
                    <a:lnB w="5760">
                      <a:solidFill>
                        <a:srgbClr val="ffffff"/>
                      </a:solidFill>
                    </a:lnB>
                    <a:solidFill>
                      <a:srgbClr val="dbe9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PRIZN.</a:t>
                      </a:r>
                      <a:endParaRPr b="0" lang="en-US" sz="1700" spc="-1" strike="noStrike">
                        <a:solidFill>
                          <a:srgbClr val="000000"/>
                        </a:solidFill>
                        <a:latin typeface="Arial"/>
                      </a:endParaRPr>
                    </a:p>
                  </a:txBody>
                  <a:tcPr anchor="ctr" marL="43560" marR="43560">
                    <a:lnL w="18720">
                      <a:solidFill>
                        <a:srgbClr val="ffffff"/>
                      </a:solidFill>
                    </a:lnL>
                    <a:lnR w="5760">
                      <a:solidFill>
                        <a:srgbClr val="ffffff"/>
                      </a:solidFill>
                    </a:lnR>
                    <a:lnT w="1872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UVR./REG.</a:t>
                      </a:r>
                      <a:endParaRPr b="0" lang="en-US" sz="17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DRŽ.</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SREBRN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ZLATO</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RAZVEDRILNA MAT.</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1872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LOGIK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9</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STRONOMIJ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4</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ANGLEŠČINA</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6</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BIOLOGIJA-PROTEUS</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7</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row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iz znanj o sladk. bolezni</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MŠ</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5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59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VG</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98440">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l-SI" sz="1700" spc="-1" strike="noStrike">
                          <a:solidFill>
                            <a:srgbClr val="ffffff"/>
                          </a:solidFill>
                          <a:latin typeface="Trebuchet MS"/>
                        </a:rPr>
                        <a:t>SKUPAJ</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 </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295</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132</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gridSpan="2">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0</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8</a:t>
                      </a:r>
                      <a:endParaRPr b="0" lang="en-US" sz="1700" spc="-1" strike="noStrike">
                        <a:solidFill>
                          <a:srgbClr val="000000"/>
                        </a:solidFill>
                        <a:latin typeface="Arial"/>
                      </a:endParaRPr>
                    </a:p>
                  </a:txBody>
                  <a:tcPr anchor="ctr"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43560" rIns="4356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700" spc="-1" strike="noStrike">
                          <a:solidFill>
                            <a:srgbClr val="000000"/>
                          </a:solidFill>
                          <a:latin typeface="Trebuchet MS"/>
                        </a:rPr>
                        <a:t>3</a:t>
                      </a:r>
                      <a:endParaRPr b="0" lang="en-US" sz="1700" spc="-1" strike="noStrike">
                        <a:solidFill>
                          <a:srgbClr val="000000"/>
                        </a:solidFill>
                        <a:latin typeface="Arial"/>
                      </a:endParaRPr>
                    </a:p>
                  </a:txBody>
                  <a:tcPr anchor="b" marL="43560" marR="43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ransition spd="slow" advTm="8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9:56:02Z</dcterms:created>
  <dc:creator>Zajc</dc:creator>
  <dc:description/>
  <dc:language>en-US</dc:language>
  <cp:lastModifiedBy>Melita</cp:lastModifiedBy>
  <dcterms:modified xsi:type="dcterms:W3CDTF">2015-03-02T11:48:04Z</dcterms:modified>
  <cp:revision>107</cp:revision>
  <dc:subject/>
  <dc:title>POROČILO  o realizaciji LDN za  šol. l. 2010/2011</dc:title>
</cp:coreProperties>
</file>